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CA3F-7BA0-4C29-B6BE-375B184B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89E6-E07E-492F-93D9-58D6A1B0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4D1D-00A9-4922-A4EA-B183C2D1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0F8A-C420-4E63-9CD4-8B008924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46EC-129B-4E29-BF01-BF7F9126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E10B-2DDF-4A0B-879A-52ADEBBE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E3DB-E2FF-4FC3-9B2C-BF5ECC10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1829-D90A-4AD8-A3E4-92352038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ECF3-8291-4CF7-99FB-17DFBACC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468E-CF94-483C-AD67-454A1BA9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D110-A65C-4930-A05C-F8BAE3E5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CCBE-AF17-4AE4-BAC3-CE2A0491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82A0-083E-4973-80BB-9471A60C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B40B-FB3E-427C-84B2-727D31A4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74EA-D7D6-4C5A-A76E-97F61D6D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1E93-D661-42CD-8B5D-1F1F08F1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A52F-D125-49DA-83D8-79FFF749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49DC0-F941-4EE2-A456-CE2ABA0C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43B21-ECC5-4120-8AF7-49D51A42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AC04F-CAE3-48E6-AE45-BDB19CAF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23B30-D092-4CFF-BF01-A46632D0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44E6F-FF9F-463C-B029-F27D0AB5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32E0-14D8-4133-9830-C65D930C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C2910-AE09-4008-A4EA-10C8971E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3980C-E448-43FE-8342-DD0BAF16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2DEB7-B3A3-4A83-9646-1AD914E6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A5791-5F08-4283-9B17-428D085C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4EB0E-95EA-4CE6-82C6-3267C573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D575B-8F31-4F0D-86A9-485F80A6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5D64B-F11A-4FC7-8ED1-5C2CC422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C1DA2-6411-4028-9CB0-4C476F01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FC118-A746-4134-A9E7-31355DD8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B8CB3-EC5A-41F1-BF12-56A98072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547F-428A-4CE9-A11C-B2B0025D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F4AD0-0787-4AEA-93FB-1CA7F390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A77CB-8670-4926-8FEA-8CA6D217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94326-BCB8-4FDD-A400-3A1856EA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83D24-6BE6-4C60-9F96-DAA4A51C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1A70B-4816-434A-AC9B-FD3CC91D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BF2EF-D1E8-427B-852F-5EEE5995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9D262-9D84-47DA-9CB8-C794B263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28730-F1E5-462D-A20E-A88E8666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DA305-9E67-406B-B514-9FAA62AE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EFE52-81D7-4D78-B45C-9644F9250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D5EB-5969-4306-9DD0-164A9188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8F129-36B8-4F6C-9E98-4F033D32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F9620-B1C2-42D3-A426-A6B2AD41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7A1AE-C12E-40EC-9716-E8A541B3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A40F1-0A63-4C5A-899E-97AAF5F9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F6208-F91F-485C-8346-B9BA81D6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DB216-E556-48F6-B449-D4FC5608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A18E2-9F82-453A-9369-81C3E8B3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00672-46AB-4DBE-BEE9-B6C42005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8C7CC-9BB7-462D-8288-0279158A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EC03B-AC90-4D4A-B609-62EFF47F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D4EA-63A6-41B8-8961-8C9D184E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2697F-E0E5-44FC-BCC0-090E9E19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5769B-8AB7-4F91-89E3-A36C7033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27B88-27DF-450A-B964-1FBCDAA7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7E57C-BFF7-436E-AEF4-0ACA2C1B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830FA-E9B9-4216-B891-A482FC19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8D45B-45C4-401E-8575-EF7F3B4B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CBD0F-3288-4CAC-805E-2EE7888E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52D37-A81D-4E21-997C-F665C570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03AE6-ED1B-45B7-A79F-0347F2FB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3861D-B45A-49D4-8A72-9DDE4635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4E5A-3840-4DE7-9870-E2B1C139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DEEDF-5237-4374-8A9C-530AF2A1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7A3A1-7FA0-47CB-8D42-C76BC586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F0E1B-DB52-4678-936C-CCB03BF8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57D54-2586-45D4-9F86-D5EEC3E2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0A020-4F02-4D22-98A6-519F0248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CCFB3-E402-4AF9-B132-83AE1D37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56859-578F-4628-85B4-192896DE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F3E81-3B81-4A52-8EF6-C3823536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3EDEC-5B75-412A-8268-47C5FBEB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79300-D6A9-4B2F-B72C-009085E7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967A-FEA7-4F8C-9095-06238F16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0F2B2-C5C8-459B-A9E6-8380BBFB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AD87F-4D00-4C6C-BC28-FE446AD0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44654-6572-4171-B46E-99E92545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7CBB3-27F6-41AD-8F73-42106ED4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313C3-E46A-4F1C-B439-0CD5E1E4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30F9-77C7-4BE5-B620-407A9BC4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755B-C536-4270-8EFB-E531C05AA38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F42B-08A9-4251-8FA5-E77A8749B38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59E2-3651-4138-92C5-FF9D7FE42C7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6ECE-D8D0-4A7A-A822-919DA436797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CDED-03CC-4C9E-A304-15A3DF687D4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156F-6879-43FB-8BCB-14F4CA6C25D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4367-A280-4AB9-B92F-4A801482F68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Butterfl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518184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6"/>
          <p:cNvSpPr/>
          <p:nvPr/>
        </p:nvSpPr>
        <p:spPr>
          <a:xfrm>
            <a:off x="914400" y="2286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More than meets the ey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7" name="Picture 10" descr="http://britton.disted.camosun.bc.ca/escher/butterfly2.jpg"/>
          <p:cNvPicPr/>
          <p:nvPr/>
        </p:nvPicPr>
        <p:blipFill>
          <a:blip r:embed="rId1"/>
          <a:stretch/>
        </p:blipFill>
        <p:spPr>
          <a:xfrm>
            <a:off x="2057400" y="1066680"/>
            <a:ext cx="557856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Smaller and Smalle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1" name="Content Placeholder 3" descr="smaller_and_smaller.jpg"/>
          <p:cNvPicPr/>
          <p:nvPr/>
        </p:nvPicPr>
        <p:blipFill>
          <a:blip r:embed="rId1"/>
          <a:stretch/>
        </p:blipFill>
        <p:spPr>
          <a:xfrm>
            <a:off x="2476440" y="1784520"/>
            <a:ext cx="4648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Path of Life I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3" name="Content Placeholder 3" descr="pathlife.jpg"/>
          <p:cNvPicPr/>
          <p:nvPr/>
        </p:nvPicPr>
        <p:blipFill>
          <a:blip r:embed="rId1"/>
          <a:stretch/>
        </p:blipFill>
        <p:spPr>
          <a:xfrm>
            <a:off x="2743200" y="144792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Whirlpool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5" name="Content Placeholder 3" descr="al_Escher08_Whirlpools.jpg"/>
          <p:cNvPicPr/>
          <p:nvPr/>
        </p:nvPicPr>
        <p:blipFill>
          <a:blip r:embed="rId1"/>
          <a:stretch/>
        </p:blipFill>
        <p:spPr>
          <a:xfrm>
            <a:off x="3429000" y="1600200"/>
            <a:ext cx="2816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Equiangular Spira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7" name="Picture 3" descr=""/>
          <p:cNvPicPr/>
          <p:nvPr/>
        </p:nvPicPr>
        <p:blipFill>
          <a:blip r:embed="rId1"/>
          <a:stretch/>
        </p:blipFill>
        <p:spPr>
          <a:xfrm>
            <a:off x="2805120" y="1738440"/>
            <a:ext cx="383544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Circle Limit 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Content Placeholder 3" descr="Escher_circle_limit_1.jpg"/>
          <p:cNvPicPr/>
          <p:nvPr/>
        </p:nvPicPr>
        <p:blipFill>
          <a:blip r:embed="rId1"/>
          <a:stretch/>
        </p:blipFill>
        <p:spPr>
          <a:xfrm>
            <a:off x="2590920" y="1523880"/>
            <a:ext cx="44067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Circle Limit II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1" name="Content Placeholder 3" descr="CircLim3.gif"/>
          <p:cNvPicPr/>
          <p:nvPr/>
        </p:nvPicPr>
        <p:blipFill>
          <a:blip r:embed="rId1"/>
          <a:stretch/>
        </p:blipFill>
        <p:spPr>
          <a:xfrm>
            <a:off x="2514600" y="13716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Circle Limit IV</a:t>
            </a: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“Heaven and Hell”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3" name="Content Placeholder 3" descr="Escher_circle_limit_4.jpg"/>
          <p:cNvPicPr/>
          <p:nvPr/>
        </p:nvPicPr>
        <p:blipFill>
          <a:blip r:embed="rId1"/>
          <a:stretch/>
        </p:blipFill>
        <p:spPr>
          <a:xfrm>
            <a:off x="2560680" y="1784520"/>
            <a:ext cx="4479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Square Limi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5" name="Picture 3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800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4:17:27Z</dcterms:created>
  <dc:creator>Stephanie Cates</dc:creator>
  <dc:description/>
  <dc:language>en-US</dc:language>
  <cp:lastModifiedBy>Stephanie Cates</cp:lastModifiedBy>
  <dcterms:modified xsi:type="dcterms:W3CDTF">2007-07-30T04:19:18Z</dcterms:modified>
  <cp:revision>1</cp:revision>
  <dc:subject/>
  <dc:title>Butterfly</dc:title>
</cp:coreProperties>
</file>